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63C4-D671-4D0E-B59E-BEECB217A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76A2-E63A-4722-8C5C-E96AE9BBD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2A22-DABB-4656-B669-0D9F57318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4147-3703-4A92-9C77-83D9427C1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ECE1E-BF52-49DF-B03C-91AD98CC6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E4796-CE42-4659-AF50-D5EE0A0F1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73591-CB1B-4B64-AAD5-285152E38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32495-993B-4D7B-9C12-9AF2739C6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60C54-D97C-4887-94C6-6AFF34D9D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23B86-50F9-4C60-993B-A870DB07C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F712D-2057-4EAA-8D3C-29C66941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FEAB-CD0F-403A-9352-2B090B88F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1E246-BAAE-4947-AF0D-DDA58CBB1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FC804-5419-48A9-B5E6-265B4CA7A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D2538-2EB8-4C6C-A0AF-172E52219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024C3-07E7-4C77-A09E-2BE496955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0B480-81C2-403F-9F0A-F12BCE472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9074-6B70-4084-9343-36419C397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FABB-432E-4B0E-B804-BD2487862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DC8E-AF4E-482D-91B5-27675C1D9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2844-3307-49F8-B37D-EDA5A6EE1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5819-17F5-40DB-921F-16D5B676A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7D62-850E-4451-912E-F1EA4444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6C79-98A3-4516-A352-6FBAD26D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D5D143-B43F-47B8-A00A-E2B519BD9F5E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7F7A31-E4DD-497E-9536-9509462E1848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gesetze-im-internet.de/" TargetMode="External"/><Relationship Id="rId3" Type="http://schemas.openxmlformats.org/officeDocument/2006/relationships/hyperlink" Target="http://www.insolvenzbekanntmachungen.de/" TargetMode="External"/><Relationship Id="rId4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Aktives Forderungsmanage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"/>
          <a:stretch/>
        </p:blipFill>
        <p:spPr>
          <a:xfrm>
            <a:off x="1628640" y="1768320"/>
            <a:ext cx="6816960" cy="4989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→  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onderfall: Verbraucher als Kun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* Schuldner befindet sich spätestens 30 Tage nach Fälligkeit und Zugang einer Rechnung in Verzug, § 286 Abs. 3 BG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Verbraucher </a:t>
            </a:r>
            <a:r>
              <a:rPr b="1" i="1" lang="de-DE" sz="3200" spc="-1" strike="noStrike">
                <a:solidFill>
                  <a:srgbClr val="ffffff"/>
                </a:solidFill>
                <a:latin typeface="Arial"/>
              </a:rPr>
              <a:t>m u s s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in der Rechnung auf diese Folgen hingewiesen werden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6. Abwicklu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) offene Posten Buchhalt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b) sofortige Fakturierung aller Leistun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c) regelmäßiges und konsequentes Mah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d) Hermes Kreditversicher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e) klare Regelung, wann eine Forderung in das Inkasso gegeben wi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f) Lieferstopp bei Verstoß gegen Zahlungsbedingun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7. Forderungsdurchsetzu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"/>
          <a:stretch/>
        </p:blipFill>
        <p:spPr>
          <a:xfrm>
            <a:off x="3105000" y="1768320"/>
            <a:ext cx="3864240" cy="4986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1. Gerichtliches Mahnverfahre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) grds. nur für Zahlungen einer bestimmten Geldsumme in inländischer Währ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b) nicht möglich, wenn Anspruch von einer noch nicht erfolgten Gegenleistung abhängig ist o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c) die Zustellung durch öffentliche Bekanntmachung erfolgen müß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546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d) Vorte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→ 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weniger Kosten als eine Klage: ca. 1/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→ 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für das Mahnverfahen ist ausschließlich das zentrale Mahngericht (Nds.: Uelzen) zuständig, unabhängig vom Streitw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e) Nachteil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→ 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bei Widerspruch/Einspruch umständlicher/langwieriger als Kl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→ 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das Ausfüllen des MB-Antrages ist für Unerfahrene nicht ganz einf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2. Klageverfah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) AG zuständig bei Streitwerten unter 5000.- €; kein Anwaltszwa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b) LG zuständig ab Streitwerten von 5000,01 €; Anwaltszwang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c) gfl. Langwierig; bei Streitwerten über 600.- €: Rechtsmittel mögli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d) Kläger hat 3 volle Gerichtskosten vorzustrec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3. Zwangsvollstreck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) Zwangsvollstreckung setzt „Titel“ (Urteil, VB oder notarielle Urkunde) vora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b) Sach- oder Forderungspfändung mögli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c) Abgabe der Vermögensauskun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8. Schuldnertrick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9480" cy="519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) Außergerichtli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- Schuldner „vergißt“, die Rechnung zu zahl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- Schuldner hat einen oder mehrere Reklamationsgrün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- Schuldner ist unbekannt verzo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- Rechnung oder Mahnung nicht erhal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- Schuldner zieht stets 5% Skonto a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- Mahngebühren nicht bezahlen, weil sie kein Verzugsschaden si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9480" cy="546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b) Während oder nach Titulier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- Steuerklasse V wähl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- Lohnpfändung durch Lohnabtretung unterlauf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- Schuldner arbeitet im Betrieb eines Angehörigen für unter 990 €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- für Schuldner bestimmte Gelder (z.B. Steuererstattungen) werden auf Konten anderer Personen überwies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- bei Pfändung von LV-Ansprüchen tritt Schuldner seine Ansprüche an Dritte ab (evtl. rückdatier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9480" cy="546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b) Während oder nach Titulier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- Steuerklasse V wähl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- Lohnpfändung durch Lohnabtretung unterlauf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- Schuldner arbeitet im Betrieb eines Angehörigen für unter 990 €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- für Schuldner bestimmte Gelder (z.B. Steuererstattungen) werden auf Konten anderer Personen überwies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- bei Pfändung von LV-Ansprüchen tritt Schuldner seine Ansprüche an Dritte ab (evtl. rückdatier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Goldene Regeln“ gegen Forderungsausfa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* Insolvenzen in Deutschland 201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→ 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29.619 Firmeninsolvenzen: Forderungsausfälle               ca. 50 Milliarden €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→ 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129.743 Privatinsolvenzen: durchschnittlich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Verschuldung von Betroffenen 32.700 €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Hilfreiche Link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.gesetze-im-internet.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de-DE" sz="24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www.insolvenzbekanntmachungen.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- www.rvg-pentos.ag (Prozesskostenrechn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- www.mahnung-online.de/mahnkosten (Mahnkosten kalkulier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- www.basiszinssatz.info/zinsrechner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- www.handelsregister.d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Vielen Dank für Ihre Aufmerksamkeit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Rechtsanwäl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Gärtner &amp; Dr. Bierman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Bruchtorwall 1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38100 Braunschwei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Tel.: 242 404 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Fax: 242 404 1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Mail: kanzlei@rechtsanwaelte-bs.e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1. Prüfen der Kund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) Zahlungsfähigkeit und -willigkeit prüfen du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*Auskunft aus dem Schuldnerverzeichnis (eingetragen sind eidesstattliche Versicherung bzw. Haftbefehl, Beugehaft, mangels Masse abgelehntes Insolvenzverfahre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* Insolvenzbekanntmachungen.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* Zwangsversteigerung.de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* „googeln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* Selbstauskunft einfordern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546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b) Daten auswer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→ 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Eigene Erfahrungen aus früheren Aufträgen mit dem Kunden mit den Ergebnissen aus 1. verbinden. Risik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→ 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Möglichkeiten der Absicherung der Unsicherheit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c) Ergebnis erziel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→ 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Vertragsverhandlungen, Zurückstellung oder Ablehn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2. Firmendaten und Vertretungsberechtigung prüf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→ 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unerläßlich für Zustellung und Titulier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→ 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z.B. Angabe eines Postfachs nicht ausreiche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→ 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Rechtsformzusatz, Inhaber, Handelsname, Firmenbezeichnung, bürgerlicher Name, z.B. be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* OHG, GmbH, Gb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* Minderjährigen oder Betreu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3. Sorgfältige Einräumung von Zahlungsziel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→ 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Zahlungsbedingungen abhängig v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* Intensität der Geschäftsbeziehung (Neukunde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* Auftragswert, -umfang und -dau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* eigene Lieferkonditionen und Kapitalausstatt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4. Klar definiertes Vertragswer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→ 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genaue Bezeichnung der zu erbringenden Leist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* Leistungsvolu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* Spezifikation von Leistung und Gewährleist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* genaue Festlegung der Zahlungsmodalitäten, insbesondere von Fälligkeit, Zins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5. Fälligkeit und Verzu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→ 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Fälligkeit von Leistung und Gegenleistung tritt ei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* aufgrund Vereinbarung der Vertragspartei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* umgehend nach Lieferung,wenn nichts vereinbart is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 → 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Verzug: Kunde zahlt nicht oder verspäte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* Verzug setzt grds. eine Mahnung nach   Fälligkeit vora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* Verzugsfolge: Zinsen, Schadensersat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→ 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usnahme von der Pflicht zu mahne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* konkrete Frist für Leistung (Zahlung) vereinbart oder aber (nach dem) Kalender bestimmbar, § 286 Abs. 2 Nr. 1 BG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  → 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z.B.: „...zahlbar zum 13.05.2013.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  → 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z.B.: „...fünf Tage nach Himmelfahrt.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aber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: einseitig festgelegter Zahlungstermin – z.B. in der Rechnung – ist nicht ausreichend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7T20:49:35Z</dcterms:created>
  <dc:creator/>
  <dc:description/>
  <dc:language>en-US</dc:language>
  <cp:lastModifiedBy/>
  <dcterms:modified xsi:type="dcterms:W3CDTF">2013-05-13T12:33:22Z</dcterms:modified>
  <cp:revision>9</cp:revision>
  <dc:subject/>
  <dc:title/>
</cp:coreProperties>
</file>